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1B1-82D1-4A0D-89E9-EB726C04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D74-B09D-4116-B8A0-3397A88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57B-C7DA-4250-B1C2-87094666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470-308A-4812-92CA-8574DBC2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AF0-DC08-48A0-B3C0-D832964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F3BA-1EC7-477E-B55D-481272A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E62A-5AA7-4B54-8DB7-55B0B4A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2DE3-8D3F-44A5-8D9B-6E3A918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66FA-E3D6-4F98-9B49-70CD24D3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5E87-C753-49E0-8045-364A831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F74B-CA1C-4F50-9834-77C2531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9D5-2C0E-4941-A8F3-01FAD11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B7AA-E2EA-4F10-9966-D39C868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F215-9BC2-4752-BBA8-3140EAD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E03-10D7-47B9-92E5-2885D9AF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49D-7583-4DCC-A635-28E77D28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ABCA-5FC6-47AB-BA34-97C117D8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CB1-007C-4365-A3B6-41CB6159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2E9-D411-48A5-94C4-BE5112D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EA8-E3B3-4721-A034-9C52B1F0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7D4-334C-445D-9FC1-D9E50C75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23F-D8BC-432D-8F54-C2B2621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EDC-D49B-4BE4-B1E6-50E024D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313-8BB6-4A20-ABB7-7D106CE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DB7B-20E6-4CDA-BE46-AB786F92A9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7D0-FEDF-4E65-8938-6A2D331639F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of District Propert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 Third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actions fall into two catego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ular rental r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ntal rates charged pursuant to a rental rate schedule approved by the Boar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st incurred” reque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aiver of regular rental fees (and often all costs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nefit” to the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ppropriate custodial hours being alloca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the District to enter into agreements to lease property owned by third partie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assroom space for adult education or other District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maintains the lease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 Civic Center Permit Off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ifornia Education Code and the LAUSD Board of Education require that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and every public school facility be made available as a civic center to members of the community and non-profit community organization f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ervised recreational activ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etings and public discuss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uring designated hours when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gular school activities are not disrupt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 a monthly basis, District receives several hundred requests for the use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f its facilities (school sites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Types of Uses of District Property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ccess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cen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ivic Center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l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LA – District’s film coordinator vend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orts to 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ndles all requests for filming or filming related activ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k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ater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requests must be handled through Film L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-managed by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Planning &amp; Design 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use of a school after hours by a non-District partner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overnmental agenc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rts organizat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ivate ent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ctors to be evaluated in a proposed joint us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ill the partner be contribut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pital improvements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grammatic contribu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ll use be cost neutral to the Distric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by third parties or by the Distri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ous real estate transactions requiring an agreement to document the transaction and/or monitor compliance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eighbor requests access onto the school to trim his trees or to fix an adjacent wal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requires access onto a neighbor’s property for school constr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 types of License/Lease Agre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use of District property by third par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term - use for 30 days or 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arking for birthday parties, dance recitals, theatrical performances, booster club or PTA fund raiser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ng term basis  - use for over 30 day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eyond the Bell programs, church services, sports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9:34Z</dcterms:created>
  <dc:creator>joyce izumi</dc:creator>
  <dc:description/>
  <dc:language>en-US</dc:language>
  <cp:lastModifiedBy>Janice Stearns</cp:lastModifiedBy>
  <dcterms:modified xsi:type="dcterms:W3CDTF">2009-04-16T20:12:34Z</dcterms:modified>
  <cp:revision>19</cp:revision>
  <dc:subject/>
  <dc:title>Use of District Property by Third Parties</dc:title>
</cp:coreProperties>
</file>